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F1DD-2691-444A-9E29-12DA30E1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94B4-57B0-4254-98C8-8D9CA682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84CE-8114-408D-9C38-26A16160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769D-F414-431C-AD8A-9C67273A6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175A-3FA4-47E1-BE6C-DD3C3003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0F17-E44B-4A24-91E1-16DC8E8B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321D-8B29-4020-8164-E88B8F67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E32A-A86D-49A8-91D5-E8CC741E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C2F2-6E82-4251-B3C3-A7B622C5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C27B-906A-497C-A4BD-7D83165A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5044-1DFE-4772-A87D-DDC35312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3B16-A159-4A5C-9918-44573293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BF69-C325-4858-95F2-E9E4FB2F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6C0E-C2C1-4B90-81EB-33CB423C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A2B9-BC8C-48C8-B7EB-18CE03FD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C5BA-1242-44E8-A09D-3AA35867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E9C2-16B4-4E8A-B25C-A4DF884C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C289-1E76-4EA3-BAE6-3D4C8F0C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9E74-5518-4541-9129-970D59B0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512A-6D78-48B8-8E19-99A44EB4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4505-2CDB-4FD9-84A3-8E73A105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C830-8F0A-4CFD-8D2D-D0357219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E497-304F-4E90-84D2-11BC1316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2B69-F54F-4825-AA59-81174C57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C479-D8F5-4D2E-AF2A-238420F741A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9EF4-AE81-4347-9436-BDD200C04242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Группа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63640" y="22050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сследователи дискриминант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042920" y="4292640"/>
            <a:ext cx="60501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Стоит ли идти  исхоженной и надежной тропкой, которая всегда приведет к цели, но потребует много времени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Наш ответ: д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73008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Наша группа получила универсальную формулу для решения любого квадратного уравне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3933720"/>
            <a:ext cx="7386480" cy="21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ы ознакомим вас с методикой получения этой «супер - формулы» и её применение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 установочном консилиуме для нахождения корня мы пытались выделить полный квадрат и разлагать на множители левую часть уравнения. Но это громоздк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  поэтому мы сделали это один раз для уравнения с буквенным коэффициентами и получили формулу для решения любого квадратного уравне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ывод формул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9" name="Picture 6" descr="C:\Documents and Settings\26515\Рабочий стол\1.JPG"/>
          <p:cNvPicPr/>
          <p:nvPr/>
        </p:nvPicPr>
        <p:blipFill>
          <a:blip r:embed="rId1"/>
          <a:stretch/>
        </p:blipFill>
        <p:spPr>
          <a:xfrm>
            <a:off x="357120" y="1857240"/>
            <a:ext cx="70232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ывод формул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1" name="Picture 5" descr="C:\Documents and Settings\26515\Рабочий стол\2.JPG"/>
          <p:cNvPicPr/>
          <p:nvPr/>
        </p:nvPicPr>
        <p:blipFill>
          <a:blip r:embed="rId1"/>
          <a:stretch/>
        </p:blipFill>
        <p:spPr>
          <a:xfrm>
            <a:off x="142920" y="2000160"/>
            <a:ext cx="75056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434880" y="44280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ывод формулы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63160" y="2641680"/>
            <a:ext cx="3616200" cy="2411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211280" y="1598760"/>
            <a:ext cx="3257640" cy="21715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4209840" y="3922200"/>
            <a:ext cx="3260520" cy="2173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" descr="C:\Documents and Settings\26515\Рабочий стол\3.JPG"/>
          <p:cNvPicPr/>
          <p:nvPr/>
        </p:nvPicPr>
        <p:blipFill>
          <a:blip r:embed="rId4"/>
          <a:stretch/>
        </p:blipFill>
        <p:spPr>
          <a:xfrm>
            <a:off x="642960" y="1571760"/>
            <a:ext cx="6248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5"/>
          <p:cNvSpPr/>
          <p:nvPr/>
        </p:nvSpPr>
        <p:spPr>
          <a:xfrm>
            <a:off x="2195640" y="620640"/>
            <a:ext cx="4105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ах</a:t>
            </a:r>
            <a:r>
              <a:rPr b="0" lang="ru-RU" sz="32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+вх+с=0, а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  <a:ea typeface="Tahoma"/>
              </a:rPr>
              <a:t>≠0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  <a:ea typeface="Tahoma"/>
              </a:rPr>
              <a:t>D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  <a:ea typeface="Tahoma"/>
              </a:rPr>
              <a:t>=в</a:t>
            </a:r>
            <a:r>
              <a:rPr b="0" lang="ru-RU" sz="3200" spc="-1" strike="noStrike" baseline="30000">
                <a:solidFill>
                  <a:srgbClr val="ffff66"/>
                </a:solidFill>
                <a:latin typeface="Times New Roman"/>
                <a:ea typeface="Tahoma"/>
              </a:rPr>
              <a:t>2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  <a:ea typeface="Tahoma"/>
              </a:rPr>
              <a:t>-4а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179280" y="3429000"/>
            <a:ext cx="1908360" cy="1810440"/>
          </a:xfrm>
          <a:prstGeom prst="rect">
            <a:avLst/>
          </a:prstGeom>
          <a:noFill/>
          <a:ln w="3816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  <a:ea typeface="Tahoma"/>
              </a:rPr>
              <a:t>&lt;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  <a:ea typeface="Tahoma"/>
              </a:rPr>
              <a:t>0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  <a:ea typeface="Tahoma"/>
              </a:rPr>
              <a:t>решений не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2340000" y="3429000"/>
            <a:ext cx="2448000" cy="2525760"/>
          </a:xfrm>
          <a:prstGeom prst="rect">
            <a:avLst/>
          </a:prstGeom>
          <a:noFill/>
          <a:ln w="3816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=0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-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ffff66"/>
                </a:solidFill>
                <a:latin typeface="Times New Roman"/>
              </a:rPr>
              <a:t>1,2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= -----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2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5003640" y="2276640"/>
            <a:ext cx="2808360" cy="4513320"/>
          </a:xfrm>
          <a:prstGeom prst="rect">
            <a:avLst/>
          </a:prstGeom>
          <a:noFill/>
          <a:ln w="3816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ahoma"/>
              </a:rPr>
              <a:t>&gt;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0, то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-в+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  <a:ea typeface="Tahoma"/>
              </a:rPr>
              <a:t>√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=-------------;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2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-в-√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=-------------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2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3995640" y="2276640"/>
            <a:ext cx="0" cy="8632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4427640" y="1916280"/>
            <a:ext cx="1512720" cy="36036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Line 18"/>
          <p:cNvSpPr/>
          <p:nvPr/>
        </p:nvSpPr>
        <p:spPr>
          <a:xfrm flipH="1">
            <a:off x="1115640" y="1989000"/>
            <a:ext cx="2376360" cy="86364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395280" y="333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 получили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500"/>
                            </p:stCondLst>
                            <p:childTnLst>
                              <p:par>
                                <p:cTn id="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9500"/>
                            </p:stCondLst>
                            <p:childTnLst>
                              <p:par>
                                <p:cTn id="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2:07:14Z</dcterms:created>
  <dc:creator>MARI</dc:creator>
  <dc:description/>
  <dc:language>en-US</dc:language>
  <cp:lastModifiedBy>26515</cp:lastModifiedBy>
  <dcterms:modified xsi:type="dcterms:W3CDTF">2010-05-24T11:08:32Z</dcterms:modified>
  <cp:revision>9</cp:revision>
  <dc:subject/>
  <dc:title>Группа D</dc:title>
</cp:coreProperties>
</file>